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C6C-05B4-48FE-A058-C883AB60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handout and link on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handout and link on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7A1-3AB4-4919-A137-107B43D2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816-FCEF-484E-A7C6-B3382E5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7DB-8A08-4968-84AD-FF1ACD5F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335-A703-4010-B016-09D5A9B1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F49-9654-43D9-BEAC-61DA254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CAB-BA89-419A-B1BB-7A6C41F6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A0D-237A-4CE5-A80B-CDF92B17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888-E0A3-4C7E-AAC9-7AC1DA7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9BB-531B-42A4-9FBB-FC8AEC3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57C-2FEC-468B-ACCA-63A39EBD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6FE-F66C-451E-BE3A-9D7A8E6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75C-2D8F-4B60-A335-C6C635F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7BE-59C5-4A24-80FA-A8D7A3F2B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 Gr 6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65472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---------small group--------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Spots -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Partne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79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meli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74484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ng to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6680" cy="878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55600" y="2209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nais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82760" y="441972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9880" y="510552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92360" y="6019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752480" y="3429000"/>
            <a:ext cx="843120" cy="102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584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 rot="17989800">
            <a:off x="2514600" y="47239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 rot="8460000">
            <a:off x="5790960" y="3352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 rot="12518400">
            <a:off x="4800600" y="5105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 rot="549600">
            <a:off x="2437920" y="220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 rot="4624200">
            <a:off x="4495680" y="167616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Grouping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D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you fall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200400"/>
            <a:ext cx="6172200" cy="485640"/>
          </a:xfrm>
          <a:prstGeom prst="leftRightArrow">
            <a:avLst>
              <a:gd name="adj1" fmla="val 50000"/>
              <a:gd name="adj2" fmla="val 2530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62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U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urriculum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ssential 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352680" y="3276720"/>
            <a:ext cx="228600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74484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1523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ng to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066680" cy="878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5600" y="2209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naiss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82760" y="441972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9880" y="510552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92360" y="60199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752480" y="3429000"/>
            <a:ext cx="843120" cy="1028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584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17989800">
            <a:off x="2514600" y="47239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8460000">
            <a:off x="5790960" y="3352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 rot="12518400">
            <a:off x="4800600" y="5105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 rot="549600">
            <a:off x="2437920" y="220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 rot="4624200">
            <a:off x="4495680" y="167616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Assessment and 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6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7:53:08Z</dcterms:created>
  <dc:creator>nancy.schultz</dc:creator>
  <dc:description/>
  <dc:language>en-US</dc:language>
  <cp:lastModifiedBy>nancy.schultz</cp:lastModifiedBy>
  <dcterms:modified xsi:type="dcterms:W3CDTF">2010-03-17T17:53:23Z</dcterms:modified>
  <cp:revision>1</cp:revision>
  <dc:subject/>
  <dc:title>DI Gr 6-9</dc:title>
</cp:coreProperties>
</file>